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9EF-BF73-4307-9554-7060DDB6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38B-E4D6-4269-9E74-65465C99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810-241C-4B9B-A8A9-2FD9B2E3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852-8D90-4DA4-916D-5DB7CF73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383-16CF-4753-A99C-4A176DB3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BF6-D9C3-43A1-8731-C0BD3DD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343-AA66-4C6B-B4E6-513DFE27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C64-2022-488D-A3F0-B788F5DC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FB6-1296-4B58-85C2-8B5CE7A1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0BB-7901-4ED9-9BAA-B5F513AB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B36-25B6-4F10-88D1-7B24B845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617-0C30-45E0-B1D7-D433685C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rrey Physical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F7A6-6710-4FBB-9B73-90B147DD3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1360" y="228600"/>
            <a:ext cx="771984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228600"/>
            <a:ext cx="609840" cy="604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105520" y="914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800600" y="1522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 District No. 36 (Surr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5257800"/>
            <a:ext cx="0" cy="9144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9480" y="6172200"/>
            <a:ext cx="9144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1905120"/>
            <a:ext cx="0" cy="9144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1905120"/>
            <a:ext cx="91440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C Fit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lenn Young, BEd, M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hysical Education and Athletics Coordinat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Cor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dges lower body to uppe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force transfer and skillful movement depend on the core to sustain proper spinal 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hances throwing, jumping, rotary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 of the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ong focus on extremities fir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 Paradigm 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tness testing antithetical to the goal of promoting physical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are not small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need to be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ing needs to be 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al fitness (used daily) befor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referenced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--not maximal exertion or to exhau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learning and positive attitu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Effects on Children of Fitness Testin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insic motivation increased with positive feedback after test, but decreased after negative feedbac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itehead &amp; Corbin, 19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contributor to negative attitudes towards P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Luke &amp; Sinclair, 19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s only motivate those that do wel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EA, 198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 emphasis on the product-related issues (fitness level, performance) rather than the process-related issues (health, physical activity behavior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ale &amp; Harris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Effects on Children of Fitness Testin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per testing turns many “off” activity rather than “on”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ocherty &amp; Bell, 1990, Corbin et al.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s a false message that competition and excellence are necessary for health and fitnes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ale &amp; Harris, 2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have little understanding why they are test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Hopple &amp; Graham,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ppropriate or undesirable use of fitness scores to grade children as a primary indicator of achievem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Corbin,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ale &amp; Harris, 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child-centered &amp; developmentally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&amp; meaningful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individualized baseline scores and feedback to impr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mote learning and positive attitude towards being 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s interpreted carefully because of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riterion-referenced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erobic Fi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e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erobic Fi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3 rest interv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engage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ss than 1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3 rest interv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engage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 to 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1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ages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inuously for 10 minutes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g. skip, hop, jog, dance, fitness circuit, school run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gages i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gorou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physical activities continuously fo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2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to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s body posi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o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achieve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s body position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achieve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a static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a static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3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8080" y="1981080"/>
          <a:ext cx="7467840" cy="3784680"/>
        </p:xfrm>
        <a:graphic>
          <a:graphicData uri="http://schemas.openxmlformats.org/drawingml/2006/table">
            <a:tbl>
              <a:tblPr/>
              <a:tblGrid>
                <a:gridCol w="990720"/>
                <a:gridCol w="1517760"/>
                <a:gridCol w="1414440"/>
                <a:gridCol w="1933560"/>
                <a:gridCol w="16113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er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elo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mp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l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than 1 rest interv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maintain the proper position for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rest interva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to maintain the proper position for the allott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the proper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seco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intains the proper body position for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lot 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52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Schools Fitness T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mprove overall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gnosing weakness/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ment over base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ness of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ing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achie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standardized test we have for 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b vs Field Based T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more accurate than field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tests to cos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not be replicated with larg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eld-Based Fitness Te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ada Fitness Award, CFA (1970), European Test of Physical Fitness, Eurofit (1988), President’s Challenge, Fitness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primarily on Health-Related components of fitness (endurance, flexibility, streng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we actually measur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s/heredit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tenti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ura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young people show a linear increase in VO2 max w/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en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our PE programs, PA progr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ed at taking the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rue Impr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itical Ques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f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riteria did you u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C Fi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ct has defined fitness for our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robic Fitness (4 station circu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ance (Stor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e (Pla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Aerobic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best indicators of overall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vious positive health-related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s are easy to administer to large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tandards develo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99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Bala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on a daily basis (static &amp; dynam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ation for all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ing and controlling your center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ly rewires the b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 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0:14:05Z</dcterms:created>
  <dc:creator>Glenn Young</dc:creator>
  <dc:description/>
  <dc:language>en-US</dc:language>
  <cp:lastModifiedBy>Glenn Young</cp:lastModifiedBy>
  <dcterms:modified xsi:type="dcterms:W3CDTF">2008-02-18T19:10:25Z</dcterms:modified>
  <cp:revision>316</cp:revision>
  <dc:subject/>
  <dc:title>PowerPoint Presentation</dc:title>
</cp:coreProperties>
</file>