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405-B141-444E-981E-C8FB1965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1EF-3293-44B6-8B4D-8C27289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83E-6990-4999-BAB1-8C3AA90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768-FAD0-4FDF-B2F1-6A648ED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108-4FD0-4044-BF7C-C285E71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DA0-253C-4F73-82BD-255215D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7D2-68B2-459C-932F-863F4AD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EA2-BB02-4F37-AF4E-7B6794A0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541-EE8E-4B05-9472-4EEAC95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B50-A57B-42DA-A741-B945432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F67-8E2F-461A-948A-FAA82AD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0F7-EF29-43F1-90E6-1AAAD72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rey Physica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C4C-901B-4238-9A68-AFFD6558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1360" y="228600"/>
            <a:ext cx="77198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609840" cy="604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055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0600" y="152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District No. 36 (Surr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25780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617220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190512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190512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C Fi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lenn Young, BEd, M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ysical Education and Athletics Coordina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Co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s lower body to uppe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force transfer and skillful movement depend on the core to sustain proper spinal 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s throwing, jumping, rotary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 of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focus on extremities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 Paradigm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tness testing antithetical to the goal of promoting physic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not small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need to b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needs to b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fitness (used daily) befor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--not maximal exertion or to exhau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insic motivation increased with positive feedback after test, but decreased after negative feed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tehead &amp; Corbin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or to negative attitudes towards P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uke &amp; Sinclair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only motivate those that do wel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A, 19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emphasis on the product-related issues (fitness level, performance) rather than the process-related issues (health, physical activity behavior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per testing turns many “off” activity rather than “on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cherty &amp; Bell, 1990, Corbi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s a false message that competition and excellence are necessary for health and fitne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have little understanding why they are test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pple &amp; Graham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ppropriate or undesirable use of fitness scores to grade children as a primary indicator of achievem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rbin,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child-centered &amp; developmentally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meaningful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individualized baseline scores and feedback to impr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 towards being 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s interpreted carefully because of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iterion-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robi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bic Fi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s than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 to 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inuously for 10 minut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. skip, hop, jog, dance, fitness circuit, school run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continuously fo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t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3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l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lot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chools Fitness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mprove overal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ng weakness/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over bas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tandardized test we have for 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 vs Field Based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accurate than field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tests to cos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 be replicated with l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ld-Based Fitness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ada Fitness Award, CFA (1970), European Test of Physical Fitness, Eurofit (1988), President’s Challenge, Fitness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primarily on Health-Related components of fitness (endurance, flexibility, stren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we actually measur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s/heredit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tent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ur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young people show a linear increase in VO2 max w/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en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our PE programs, PA progr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ed at taking the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rue Impr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tical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f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riteria did you 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has defined fitness for ou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bic Fitness (4 station circu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(Sto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 (Pl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erobic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best indicators of overal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vious positive health-relat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s are easy to administer to larg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andards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Bal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on a daily basis (static &amp; dynam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all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and controlling your center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rewires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14:05Z</dcterms:created>
  <dc:creator>Glenn Young</dc:creator>
  <dc:description/>
  <dc:language>en-US</dc:language>
  <cp:lastModifiedBy>Glenn Young</cp:lastModifiedBy>
  <dcterms:modified xsi:type="dcterms:W3CDTF">2008-02-18T19:10:25Z</dcterms:modified>
  <cp:revision>316</cp:revision>
  <dc:subject/>
  <dc:title>PowerPoint Presentation</dc:title>
</cp:coreProperties>
</file>