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D2D-095C-452B-958A-52D3296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E0D-ECCC-4D31-92CD-BC15B7C5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779-70D5-40B0-A49E-4EEB61E9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A4B-778A-4EA1-8EEA-78A7BB4E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03F-2F47-46A5-8348-5E4952C9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01B-F648-4C4A-8293-B53BB35F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A52-718A-4798-9D57-9A813DCB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131-1EE6-4CE3-9146-D2610DB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F78-921A-491A-910B-54B277E1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E2B-3153-491F-8A77-FBF7C9C0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2F9-44F2-4357-90A9-8EC4DDD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F36-2996-49F3-AC00-390E6B3E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rrey Physica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BEA-B128-4326-A65A-26BAADA32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1360" y="228600"/>
            <a:ext cx="771984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228600"/>
            <a:ext cx="609840" cy="604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105520" y="914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00600" y="1522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District No. 36 (Surr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5257800"/>
            <a:ext cx="0" cy="9144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6172200"/>
            <a:ext cx="9144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1905120"/>
            <a:ext cx="0" cy="9144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1905120"/>
            <a:ext cx="9144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C Fi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lenn Young, BEd, M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hysical Education and Athletics Coordina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Co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dges lower body to uppe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force transfer and skillful movement depend on the core to sustain proper spinal 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es throwing, jumping, rotary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 of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ong focus on extremities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 Paradigm 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tness testing antithetical to the goal of promoting physical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are not small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need to be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 needs to be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al fitness (used daily) befor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referenced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--not maximal exertion or to exhau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learning and positive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Effects on Children of Fitness Test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insic motivation increased with positive feedback after test, but decreased after negative feedbac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itehead &amp; Corbin, 19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contributor to negative attitudes towards P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Luke &amp; Sinclair, 19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only motivate those that do wel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EA, 198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emphasis on the product-related issues (fitness level, performance) rather than the process-related issues (health, physical activity behavior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ale &amp; Harris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Effects on Children of Fitness Test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per testing turns many “off” activity rather than “on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ocherty &amp; Bell, 1990, Corbin et al.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s a false message that competition and excellence are necessary for health and fitnes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ale &amp; Harris, 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have little understanding why they are test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opple &amp; Graham,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ppropriate or undesirable use of fitness scores to grade children as a primary indicator of achievem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orbin,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ale &amp; Harris, 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child-centered &amp; developmentally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&amp; meaningful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individualized baseline scores and feedback to impr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learning and positive attitude towards being 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s interpreted carefully because of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riterion-referenced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robic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bic Fi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3 rest interv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engage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ss than 1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3 rest interv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engage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 to 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1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ages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inuously for 10 minute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g. skip, hop, jog, dance, fitness circuit, school run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ages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continuously fo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2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to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s body posi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o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achieve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s body posi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achieve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a static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a static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3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l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1 rest interv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maintain the proper position for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rest interv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maintain the proper position for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the proper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the proper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lot 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52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Schools Fitness T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mprove overall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nosing weakness/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ment over bas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 of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ing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achie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standardized test we have for 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 vs Field Based T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more accurate than field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tests to cos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not be replicated with lar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eld-Based Fitness T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ada Fitness Award, CFA (1970), European Test of Physical Fitness, Eurofit (1988), President’s Challenge, Fitness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primarily on Health-Related components of fitness (endurance, flexibility, stren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we actually measur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s/heredit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tenti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ura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young people show a linear increase in VO2 max w/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en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our PE programs, PA progr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ed at taking the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rue Impr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itical 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f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riteria did you u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C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ct has defined fitness for our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robic Fitness (4 station circu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ance (Sto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e (Pla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erobic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best indicators of overal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vious positive health-related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s are easy to administer to large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andards develo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Bala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on a daily basis (static &amp; dynam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for all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and controlling your center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ly rewires the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0:14:05Z</dcterms:created>
  <dc:creator>Glenn Young</dc:creator>
  <dc:description/>
  <dc:language>en-US</dc:language>
  <cp:lastModifiedBy>Glenn Young</cp:lastModifiedBy>
  <dcterms:modified xsi:type="dcterms:W3CDTF">2008-02-18T19:10:25Z</dcterms:modified>
  <cp:revision>316</cp:revision>
  <dc:subject/>
  <dc:title>PowerPoint Presentation</dc:title>
</cp:coreProperties>
</file>