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3E8-EA48-486D-A6FF-CE2BD7E2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31F-B8A6-4D8A-A182-557B5649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7BE-C08F-4192-A844-4B523BBB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049-291C-4C30-8699-8A5C8808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DDC-5AD0-4BF8-ACF5-E99F61B8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142-8E66-4EE9-AF15-15C1D237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277-7AEE-462D-AF1E-22B67CEB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F35-0632-4F7C-9FB8-9EF2C265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89F-98A6-41D1-BC61-0A25AA6E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A1B-7834-4E26-8FD4-8195C56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040-4BCE-438B-8D47-6EDBC1FB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C3C-B249-4C6A-85FD-9DB6D8B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rrey Physica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2D88-6C94-4BEB-972E-548D19EAC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1360" y="228600"/>
            <a:ext cx="771984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228600"/>
            <a:ext cx="609840" cy="604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105520" y="914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800600" y="1522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District No. 36 (Surr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5257800"/>
            <a:ext cx="0" cy="9144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9480" y="6172200"/>
            <a:ext cx="91440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1905120"/>
            <a:ext cx="0" cy="9144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20120" y="1905120"/>
            <a:ext cx="91440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C Fit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lenn Young, BEd, M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hysical Education and Athletics Coordinat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Cor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dges lower body to uppe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 force transfer and skillful movement depend on the core to sustain proper spinal 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hances throwing, jumping, rotary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 of the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ong focus on extremities fi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a Paradigm 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tness testing antithetical to the goal of promoting physical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are not small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s need to be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ing needs to be 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al fitness (used daily) befor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referenced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--not maximal exertion or to exhau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learning and positive attit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Effects on Children of Fitness Testing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insic motivation increased with positive feedback after test, but decreased after negative feedbac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itehead &amp; Corbin, 19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contributor to negative attitudes towards P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Luke &amp; Sinclair, 19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s only motivate those that do wel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EA, 198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 emphasis on the product-related issues (fitness level, performance) rather than the process-related issues (health, physical activity behavior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ale &amp; Harris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Effects on Children of Fitness Testing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per testing turns many “off” activity rather than “on”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ocherty &amp; Bell, 1990, Corbin et al.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s a false message that competition and excellence are necessary for health and fitnes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ale &amp; Harris, 200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have little understanding why they are teste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Hopple &amp; Graham,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ppropriate or undesirable use of fitness scores to grade children as a primary indicator of achievem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orbin,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atio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ale &amp; Harris, 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child-centered &amp; developmentally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&amp; meaningful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individualized baseline scores and feedback to impr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learning and positive attitude towards being 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s interpreted carefully because of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riterion-referenced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robic Fi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e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erobic Fi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3 rest interv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engage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rat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ss than 10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3 rest interv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engage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rate to 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10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ages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inuously for 10 minutes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g. skip, hop, jog, dance, fitness circuit, school run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ages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continuously fo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2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to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usts body positio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o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achieve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usts body positio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achieve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a static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a static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3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la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1 rest interva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maintain the proper position for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rest interva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maintain the proper position for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the proper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the proper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lot 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52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Schools Fitness T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mprove overall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gnosing weakness/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ment over base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ness of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ing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 achie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standardized test we have for 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 vs Field Based T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more accurate than field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 tests to cos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not be replicated with larg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eld-Based Fitness T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ada Fitness Award, CFA (1970), European Test of Physical Fitness, Eurofit (1988), President’s Challenge, Fitness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primarily on Health-Related components of fitness (endurance, flexibility, streng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we actually measur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tics/heredit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tenti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ura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young people show a linear increase in VO2 max w/a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en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our PE programs, PA progr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ed at taking the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rue Impr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itical Ques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you f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riteria did you u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BC Fi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ct has defined fitness for our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robic Fitness (4 station circu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ance (Stor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e (Pla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Aerobic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best indicators of overall fi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vious positive health-related 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s are easy to administer to large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tandards develo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Bala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on a daily basis (static &amp; dynam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ation for all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ing and controlling your center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ly rewires the b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ury 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00:14:05Z</dcterms:created>
  <dc:creator>Glenn Young</dc:creator>
  <dc:description/>
  <dc:language>en-US</dc:language>
  <cp:lastModifiedBy>Glenn Young</cp:lastModifiedBy>
  <dcterms:modified xsi:type="dcterms:W3CDTF">2008-02-18T19:10:25Z</dcterms:modified>
  <cp:revision>316</cp:revision>
  <dc:subject/>
  <dc:title>PowerPoint Presentation</dc:title>
</cp:coreProperties>
</file>